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2118-782A-44B8-88D5-6ED03DF74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9F91-9BDE-479F-9335-914374BE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6346-8C5C-4078-8357-75C70B7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23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04680" y="70920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23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04680" y="5316120"/>
            <a:ext cx="17910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E056-7C84-4B18-9DCC-D1B96BE15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3581-E64F-4D57-9918-5B73C82F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52CF-627B-4BC3-9D0C-88A9280F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02E3-3FBB-4B6E-A3F0-C4B52687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35A0-B6ED-4B63-821F-CB1D423D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6560" y="290520"/>
            <a:ext cx="558792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AC71-450A-41A0-9DA3-C6BEB815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53E7-81FD-4002-B503-70F486E6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93160" y="531612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D0C2-1A22-4476-8164-8A069F9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560" y="275040"/>
            <a:ext cx="5587920" cy="30132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93160" y="709200"/>
            <a:ext cx="271440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5316120"/>
            <a:ext cx="5562360" cy="42069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E881-2221-4651-8847-F316BDDF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2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792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895320" indent="19080"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592280" indent="-22716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048040" indent="-22716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9700920"/>
            <a:ext cx="1581120" cy="2048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5428800" y="9672120"/>
            <a:ext cx="1428840" cy="23364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61CF59FE-EB92-4B4B-92FF-731599D25685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9691560"/>
            <a:ext cx="3149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© BEYOND BUSINESS - CV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691560"/>
            <a:ext cx="685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Verdana"/>
              </a:rPr>
              <a:t>www.BEYONDBUSINESS.info / www.CVOP.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32240" y="9691560"/>
            <a:ext cx="1625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5C1280B3-EE7E-4A2E-9938-6102CF5A8039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Mini-BCscan” zelfreflect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n deze zelfreflectie-scan word je gevraagd 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wat je voorkeurstijl is om met problemen om te gaan. 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Hieronder staan acht manieren om met problemen om te gaan. Gebruik de volgende schaal om aan te geven hoe vaak je die toepas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1  Zeld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2  So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3  Regelmati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4  Heel vaa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5  Bijna altij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luister goed naar anderen en heb begrip voor veel verschillende standpunt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et duidelijke (werk)regels, richtlijnen en doelstellingen ne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gebruik bekende methoden om informatie en feiten te analyser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zie nieuwe trends, kansen en mogelijkhed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onderhandel met en beïnvloed belangrijke mens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bedenk oplossingen voor praktische problem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toon een grote mate van tolerantie om goed samen te kunnen werk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Ik kan mij goed richten en focussen op wat ik aan het doen ben en ik ben niet af te brengen van mijn doel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9800" y="3378240"/>
            <a:ext cx="274680" cy="426960"/>
            <a:chOff x="469800" y="3378240"/>
            <a:chExt cx="274680" cy="426960"/>
          </a:xfrm>
        </p:grpSpPr>
        <p:sp>
          <p:nvSpPr>
            <p:cNvPr id="46" name=""/>
            <p:cNvSpPr/>
            <p:nvPr/>
          </p:nvSpPr>
          <p:spPr>
            <a:xfrm>
              <a:off x="469800" y="33782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9800" y="38052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9800" y="5549760"/>
            <a:ext cx="274680" cy="426960"/>
            <a:chOff x="469800" y="5549760"/>
            <a:chExt cx="274680" cy="426960"/>
          </a:xfrm>
        </p:grpSpPr>
        <p:sp>
          <p:nvSpPr>
            <p:cNvPr id="49" name=""/>
            <p:cNvSpPr/>
            <p:nvPr/>
          </p:nvSpPr>
          <p:spPr>
            <a:xfrm>
              <a:off x="469800" y="554976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9800" y="597672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9800" y="6647040"/>
            <a:ext cx="274680" cy="426960"/>
            <a:chOff x="469800" y="6647040"/>
            <a:chExt cx="274680" cy="426960"/>
          </a:xfrm>
        </p:grpSpPr>
        <p:sp>
          <p:nvSpPr>
            <p:cNvPr id="52" name=""/>
            <p:cNvSpPr/>
            <p:nvPr/>
          </p:nvSpPr>
          <p:spPr>
            <a:xfrm>
              <a:off x="469800" y="66470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9800" y="707400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910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60840"/>
            <a:ext cx="4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944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82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737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501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7783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626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2120" y="4468680"/>
            <a:ext cx="274680" cy="426960"/>
            <a:chOff x="492120" y="4468680"/>
            <a:chExt cx="274680" cy="426960"/>
          </a:xfrm>
        </p:grpSpPr>
        <p:sp>
          <p:nvSpPr>
            <p:cNvPr id="63" name=""/>
            <p:cNvSpPr/>
            <p:nvPr/>
          </p:nvSpPr>
          <p:spPr>
            <a:xfrm>
              <a:off x="492120" y="446868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4895640"/>
              <a:ext cx="274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200" rIns="972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6560" y="290520"/>
            <a:ext cx="5587920" cy="27000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ctr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eken je eigen prof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709200"/>
            <a:ext cx="5562360" cy="8820360"/>
          </a:xfrm>
          <a:prstGeom prst="rect">
            <a:avLst/>
          </a:prstGeom>
          <a:noFill/>
          <a:ln w="0">
            <a:noFill/>
          </a:ln>
        </p:spPr>
        <p:txBody>
          <a:bodyPr tIns="43920" bIns="43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Mini-BCscan” zelfreflectie-scan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Je eigen profiel tekenen gaat als volgt: Neem je scores van de vragen over door op de kruising van de vraaglijnen (A, B, ..) en de ringen=scores (1,2, ..) een rondje te zetten. Verbind daarna in rechte lijnen de rondjes met elkaar zodat een webprofiel ontstaat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68360"/>
            <a:ext cx="6858000" cy="49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8680" y="4537080"/>
            <a:ext cx="3914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6000" y="2579760"/>
            <a:ext cx="0" cy="3914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58880" y="3762000"/>
            <a:ext cx="3594240" cy="155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80920" y="2739960"/>
            <a:ext cx="1550160" cy="35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27720" y="2720160"/>
            <a:ext cx="1456560" cy="363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39080" y="3808800"/>
            <a:ext cx="3633840" cy="145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4240" y="4143240"/>
            <a:ext cx="793800" cy="787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0760" y="3749760"/>
            <a:ext cx="1581120" cy="15746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3355920"/>
            <a:ext cx="2362320" cy="23558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86040" y="2975040"/>
            <a:ext cx="3136680" cy="31366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92200" y="2562120"/>
            <a:ext cx="3930840" cy="393696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15920" y="4413240"/>
            <a:ext cx="1858320" cy="276480"/>
            <a:chOff x="3715920" y="4413240"/>
            <a:chExt cx="1858320" cy="276480"/>
          </a:xfrm>
        </p:grpSpPr>
        <p:sp>
          <p:nvSpPr>
            <p:cNvPr id="80" name=""/>
            <p:cNvSpPr/>
            <p:nvPr/>
          </p:nvSpPr>
          <p:spPr>
            <a:xfrm>
              <a:off x="37159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04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8272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980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92360" y="4413240"/>
              <a:ext cx="281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0" rIns="972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420880" y="526104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RODU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3360" y="6394320"/>
            <a:ext cx="131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STUU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8640" y="6388200"/>
            <a:ext cx="153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5191200"/>
            <a:ext cx="178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ONTROL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8520" y="357336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37280" y="246528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EN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9880" y="2508120"/>
            <a:ext cx="125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NOV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4440" y="3570120"/>
            <a:ext cx="200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BEMIDDEL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0960" y="2266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05480" y="6200640"/>
            <a:ext cx="4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4200" y="23130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2040" y="618660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61000" y="338148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360" y="334656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360" y="495792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5360" y="5059440"/>
            <a:ext cx="52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1:02:37Z</dcterms:created>
  <dc:creator>Frans de Vlieger</dc:creator>
  <dc:description/>
  <dc:language>en-US</dc:language>
  <cp:lastModifiedBy>AAk</cp:lastModifiedBy>
  <cp:lastPrinted>2007-03-25T19:59:23Z</cp:lastPrinted>
  <dcterms:modified xsi:type="dcterms:W3CDTF">2011-03-30T07:51:19Z</dcterms:modified>
  <cp:revision>546</cp:revision>
  <dc:subject>Centrum voor Onoplosbare Problemen</dc:subject>
  <dc:title>module</dc:title>
</cp:coreProperties>
</file>